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3.png" ContentType="image/png"/>
  <Override PartName="/ppt/media/image26.png" ContentType="image/png"/>
  <Override PartName="/ppt/media/image23.png" ContentType="image/png"/>
  <Override PartName="/ppt/media/image13.jpeg" ContentType="image/jpeg"/>
  <Override PartName="/ppt/media/image4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8.png" ContentType="image/png"/>
  <Override PartName="/ppt/media/image10.gif" ContentType="image/gif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20.wmf" ContentType="image/x-wmf"/>
  <Override PartName="/ppt/media/image22.png" ContentType="image/png"/>
  <Override PartName="/ppt/media/image2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AA510-4C46-4573-AA9C-5C8E1B596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DFDAC2-78B1-4B53-BA02-1882ED70F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7695-53AB-495C-B019-FD3078AED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6FA6-BE4E-4575-9811-A73B15D8197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1E38-AA43-4492-9B49-0ED9D2E6D1A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9872-79E9-48C3-B5C1-BBF7D815198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AAD7-081D-4A0B-985D-FCFF7F5741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31D9-9F44-48BA-9A66-BE3A124D77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D73E-A00F-424E-BAD0-F0DAE021648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7B410-8F07-40C6-9867-5CDE8CC6F36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8B24-7342-423E-BFD7-038239492B3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2DC4-C69B-41E8-90E8-98D07291BF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DB42-6367-4B7E-BDC5-6C7E5B274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5CD7-57B9-490D-97AF-D96B01500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8115-31DF-4ED3-B6FD-1D68181C6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2A4B-749D-48A6-B285-99CFC0611B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A80F-206A-4686-8A68-938AED4F6E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49BF-14DB-49D9-A828-3F87F16F94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C9D69-EE70-4147-A963-A01B076F32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87D4-C8F8-4A3E-87A7-BC87776B8E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5A78-C38F-4BD1-9ECC-8DCBB0FA99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307F-E836-4E96-B4A9-4478CE299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6787-C223-4800-87FC-75FAEAAC9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F72C7-6720-4D33-B23F-B57F4E117C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B53A7-B875-4A86-AA51-FCCFBB1E89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FEE2-C006-4C90-BFB8-E5FBF23B48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6412-502B-4709-AC1F-F6CCA33F43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0974-22B9-46A2-833C-F229F4B6A3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928-04CA-4AB9-AE09-764A77E847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61B-E385-4BF5-ABB1-059D0CF0E6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DBD-F760-43AA-9D5C-B7F46CCADC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384-5AB2-4A39-99C4-1965BCD18A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CDE-63BA-48CC-9CDF-28D9C37E63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DD07-C29D-4C41-834D-F3FCB6A187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123-3F26-4FB7-88E5-1C9E1EB412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BC6-72B6-4282-B62F-5E3EC83FCF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313-2461-4CF0-A3A5-C234C737C8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095-B5D1-4785-AA06-59147D2F04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457-0321-4688-81F7-9D7A365234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377-5E30-4681-81CB-B7B3E1D283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C1F-FF90-48C8-AF2D-A1899F604E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99A55-1A1A-4707-B43F-2E9C610C5D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06D96-6414-4A72-ACBC-7A8DFF5469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3D3A6-1738-4E6C-AFEE-5B3614DC2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E110-5DD0-416A-901B-7D45739172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A0C07-F8DC-4588-87C6-04A7DC45F8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65FAC-25C2-45D9-9ED2-A81620A599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11A99-699C-46E2-A7B7-5A46E72650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3BEBB-8A4B-4A7D-BB8B-DC7833691D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C7558-222B-446B-8123-57A9739796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A6819-AC3A-44F0-8920-BA6F8E3B6F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F71F8-F8C0-4FBB-BB8F-A8797D45C6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02B62-995D-4466-B8D7-D28EAD0606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CB9CB-9BE2-4251-80D7-13BAFA36CD2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3B89B-1C6F-4D67-AF05-A998FC90D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F078-D41A-4583-ACD6-D03DD141F9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8E6A2-7A45-4538-BD3A-6D66A39EBD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DC1F0-B819-43B5-847C-318D5410CAB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7C048-51AD-4D51-A565-22FC7C68BB8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216BB-40D3-4F9A-BD6B-4A5BE6637C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95E4A-5EBB-41E3-8DAF-A5032E966A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F2602-A99E-4A52-8A1F-E2306D4A97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4E3A7-9FE0-47FB-858E-DD280BB797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F4704-17B9-4EFD-B06D-75D721A5877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FDFA1-88DF-4726-9CE7-1E01FD7AEFF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79FE5-E0F6-440E-8D5D-3B0E7B1E2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E3A5-DA0F-43C1-914F-AC2E506727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6F525-7B0D-4A73-8A30-A2956DA3C1D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34F2-3BF6-401B-8641-C0E27027E4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A31D-134B-4660-82A1-EFA1822DF68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7B7A-71F7-43A4-8661-691676C24D8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AAC5-A0B5-46F8-B532-82BACD43E82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3133-5871-4CEE-9E56-CF7FD46CC91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0EF2-BD34-4E19-B8A3-F08FC8AD300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A880-B60D-443D-85B6-BFF3F1259E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E4B2-7F32-4BB0-87C0-16C79285C8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FD3A-7233-4911-A89D-9E30126D1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AD72-D88C-4FE1-BD06-701ED9D280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BDC5-16FB-49B0-BCF2-C1DC31936A5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DBDF-4F31-4A99-8D48-09637C60E9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1062-942D-4C7D-9757-5880CC0849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3A334-384B-4A70-B040-6A774F1BA79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6B8C86-4512-46A2-BBBF-A2284270C0C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63AED-13C0-4274-8796-15CD82D6E2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D5C0E6-ACF2-4B11-B699-950129186A8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465FC-2D08-4BEF-8631-287ED200FF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5F9B31-E0B1-480A-9B56-C57888FE77F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EE5A62-F1C1-4EED-92A9-4551B890E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0B81-60F7-4914-B18A-146E751D699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A3D4FC-653C-4404-B253-F9DA1F40EB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A4DF3-1C8A-471C-BD02-59F997469C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32D053-E4D0-40F4-9115-C5730F1B116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6E980-7E6E-43CC-A692-1751F4CEAA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B2C80-A8F9-40A0-A2CF-6D491A75ED4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C9991-3F39-4757-9399-9BFCA4757DC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BE70B-CA01-4888-92F9-5FF06A2446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26003-3A00-4689-853F-CF1715A37D8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07744-5BAF-486E-B0D9-CF49CBFEFFE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21646-A4BE-43A1-B640-48A8DC2E9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171E-6C9F-4B84-B390-502379EF024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59D27-5779-4EF5-B5DF-EE2B1C6F6F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01B64-DE26-4337-BC16-DE858C4063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D4BF4-C9DC-4A54-8EA1-1ADE1FEE1F0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82E24-76FA-4DBE-8B33-4BD81778E80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CD538-FA6F-4AD6-A3EE-D8F84920DA9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1F5B7-7F25-4F62-97CD-66C58C7005D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619F4-22BE-4CEE-AB46-5C722FC8994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B92A-51C4-4B77-A267-5E4C0974303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9C8A-F484-43C8-B6F0-6DA39B4FCC3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84897-2826-4CD5-AAFF-8A1B64B65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"/>
          <p:cNvSpPr/>
          <p:nvPr/>
        </p:nvSpPr>
        <p:spPr>
          <a:xfrm>
            <a:off x="6477120" y="76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760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37B5DC-27F9-4C03-B35C-D21E6CB82CA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9D35B49-E0EB-42CD-B3D4-B56FC7BDA7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3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7AEBAFE-3D1A-4A4E-A874-5012A1E180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83652B9-2400-4CF3-B54E-8B4CD8B461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5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F88A94D-A988-47C8-A108-97E2E96131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116990E-CD62-4616-A3D4-5270843A21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2027828-CF3B-4F7B-BD3A-59C11F0C34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DDB9F57-E575-43F4-AE23-ABA0117F5D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9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6EE0998-14E5-4A20-BA4B-63CEDA8691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785880"/>
            <a:ext cx="80010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Impact"/>
              </a:rPr>
              <a:t>Ты готов к работе на уроке</a:t>
            </a:r>
            <a:r>
              <a:rPr b="1" lang="en-US" sz="3600" spc="-1" strike="noStrike">
                <a:solidFill>
                  <a:srgbClr val="4e3b30"/>
                </a:solidFill>
                <a:latin typeface="Impact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643040" y="1857240"/>
            <a:ext cx="5715000" cy="4043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7305840" y="0"/>
            <a:ext cx="183816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1481040" cy="18666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5219640" y="3645000"/>
            <a:ext cx="1308240" cy="19288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4"/>
          <a:stretch/>
        </p:blipFill>
        <p:spPr>
          <a:xfrm>
            <a:off x="2771640" y="1197000"/>
            <a:ext cx="2138400" cy="15318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857680" y="335772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ruthCYR Black"/>
              </a:rPr>
              <a:t>Д\з: карточка на выб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4952880" y="0"/>
            <a:ext cx="4496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152280"/>
            <a:ext cx="5257800" cy="4038840"/>
          </a:xfrm>
          <a:prstGeom prst="cloudCallout">
            <a:avLst>
              <a:gd name="adj1" fmla="val 88134"/>
              <a:gd name="adj2" fmla="val 61319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Monotype Corsiva"/>
              </a:rPr>
              <a:t>  </a:t>
            </a:r>
            <a:r>
              <a:rPr b="1" lang="ru-RU" sz="5400" spc="-1" strike="noStrike">
                <a:solidFill>
                  <a:srgbClr val="ff33cc"/>
                </a:solidFill>
                <a:latin typeface="Monotype Corsiva"/>
              </a:rPr>
              <a:t>ВСЕМ СПАСИБО за урок!!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248520" y="4343400"/>
            <a:ext cx="2666880" cy="2514600"/>
            <a:chOff x="6248520" y="4343400"/>
            <a:chExt cx="2666880" cy="2514600"/>
          </a:xfrm>
        </p:grpSpPr>
        <p:grpSp>
          <p:nvGrpSpPr>
            <p:cNvPr id="600" name=""/>
            <p:cNvGrpSpPr/>
            <p:nvPr/>
          </p:nvGrpSpPr>
          <p:grpSpPr>
            <a:xfrm>
              <a:off x="6248520" y="4343400"/>
              <a:ext cx="2666880" cy="2514600"/>
              <a:chOff x="6248520" y="4343400"/>
              <a:chExt cx="2666880" cy="2514600"/>
            </a:xfrm>
          </p:grpSpPr>
          <p:pic>
            <p:nvPicPr>
              <p:cNvPr id="6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4343400"/>
                <a:ext cx="266688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 rot="2100000">
                <a:off x="7060680" y="5054400"/>
                <a:ext cx="1116000" cy="904680"/>
              </a:xfrm>
              <a:prstGeom prst="irregularSeal2">
                <a:avLst/>
              </a:prstGeom>
              <a:solidFill>
                <a:srgbClr val="009900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 rot="2400000">
              <a:off x="7772040" y="5257440"/>
              <a:ext cx="304920" cy="1522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dur="indefinite" fill="hold">
                      <p:stCondLst>
                        <p:cond delay="0"/>
                      </p:stCondLst>
                      <p:childTnLst>
                        <p:par>
                          <p:cTn id="4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 fill="hold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1000" fill="hold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50720" y="1944720"/>
            <a:ext cx="8521920" cy="1388880"/>
            <a:chOff x="450720" y="1944720"/>
            <a:chExt cx="8521920" cy="138888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50720" y="1944720"/>
              <a:ext cx="852192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50720" y="1944720"/>
              <a:ext cx="852192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214200" y="5635800"/>
            <a:ext cx="1704960" cy="12222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 flipV="1">
            <a:off x="2268360" y="3498840"/>
            <a:ext cx="1800" cy="288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214280" y="5284440"/>
            <a:ext cx="266400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3564000" y="50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1908000" y="3500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"/>
          <p:cNvSpPr/>
          <p:nvPr/>
        </p:nvSpPr>
        <p:spPr>
          <a:xfrm>
            <a:off x="1500120" y="500076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2484360" y="4292640"/>
            <a:ext cx="73080" cy="71280"/>
          </a:xfrm>
          <a:prstGeom prst="pie">
            <a:avLst/>
          </a:prstGeom>
          <a:solidFill>
            <a:srgbClr val="f0a22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1979640" y="5445000"/>
            <a:ext cx="73080" cy="71640"/>
          </a:xfrm>
          <a:prstGeom prst="pie">
            <a:avLst/>
          </a:prstGeom>
          <a:solidFill>
            <a:srgbClr val="f0a22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"/>
          <p:cNvSpPr/>
          <p:nvPr/>
        </p:nvSpPr>
        <p:spPr>
          <a:xfrm>
            <a:off x="3059280" y="4869000"/>
            <a:ext cx="72720" cy="71280"/>
          </a:xfrm>
          <a:prstGeom prst="pie">
            <a:avLst/>
          </a:prstGeom>
          <a:solidFill>
            <a:srgbClr val="a5644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55640" cy="1573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1571760" y="357120"/>
            <a:ext cx="16556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5435640" y="333360"/>
            <a:ext cx="2160720" cy="1655640"/>
            <a:chOff x="5435640" y="333360"/>
            <a:chExt cx="2160720" cy="1655640"/>
          </a:xfrm>
        </p:grpSpPr>
        <p:pic>
          <p:nvPicPr>
            <p:cNvPr id="425" name="" descr=""/>
            <p:cNvPicPr/>
            <p:nvPr/>
          </p:nvPicPr>
          <p:blipFill>
            <a:blip r:embed="rId6"/>
            <a:stretch/>
          </p:blipFill>
          <p:spPr>
            <a:xfrm>
              <a:off x="5435640" y="357120"/>
              <a:ext cx="2131920" cy="16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7375680" y="1197000"/>
              <a:ext cx="2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Verdana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96040" y="333360"/>
              <a:ext cx="2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96040" y="1222200"/>
              <a:ext cx="2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16720" y="1222200"/>
              <a:ext cx="2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467400" y="382680"/>
              <a:ext cx="1800" cy="160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45080" y="1863720"/>
              <a:ext cx="41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45080" y="1751040"/>
              <a:ext cx="41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45080" y="1654200"/>
              <a:ext cx="41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45080" y="1542960"/>
              <a:ext cx="41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45080" y="1441440"/>
              <a:ext cx="41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45080" y="1333440"/>
              <a:ext cx="41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45080" y="1235160"/>
              <a:ext cx="41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5080" y="1122480"/>
              <a:ext cx="41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45080" y="1011240"/>
              <a:ext cx="41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45080" y="905040"/>
              <a:ext cx="41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45080" y="801720"/>
              <a:ext cx="41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45080" y="693720"/>
              <a:ext cx="41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45080" y="592200"/>
              <a:ext cx="41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45080" y="484200"/>
              <a:ext cx="41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23040" y="1025640"/>
              <a:ext cx="2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64080" y="1233360"/>
              <a:ext cx="2078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49840" y="1212840"/>
              <a:ext cx="180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67560" y="1212840"/>
              <a:ext cx="1440" cy="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84920" y="121284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00840" y="121284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21440" y="121284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38800" y="1212840"/>
              <a:ext cx="180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56520" y="121284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0640" y="1197000"/>
              <a:ext cx="1440" cy="3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93040" y="121284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10400" y="121284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29560" y="1212840"/>
              <a:ext cx="1440" cy="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50160" y="121284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67520" y="121284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86680" y="121284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04040" y="1212840"/>
              <a:ext cx="180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19960" y="121284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26000" y="1212840"/>
              <a:ext cx="180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80080" y="1004760"/>
              <a:ext cx="28800" cy="241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02480" y="685800"/>
              <a:ext cx="2844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46800" y="1004760"/>
              <a:ext cx="27000" cy="241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19840" y="1222200"/>
              <a:ext cx="27000" cy="241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85120" y="477720"/>
              <a:ext cx="2664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08840" y="579600"/>
              <a:ext cx="2700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72320" y="477720"/>
              <a:ext cx="2700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10280" y="795240"/>
              <a:ext cx="2700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54600" y="900000"/>
              <a:ext cx="2700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07040" y="900000"/>
              <a:ext cx="2700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54600" y="1432080"/>
              <a:ext cx="2700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54600" y="1111320"/>
              <a:ext cx="2700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32680" y="1536840"/>
              <a:ext cx="2700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89680" y="1641600"/>
              <a:ext cx="2700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85120" y="1641600"/>
              <a:ext cx="2664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19840" y="1536840"/>
              <a:ext cx="2700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75520" y="1111320"/>
              <a:ext cx="27000" cy="237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42120" y="685800"/>
              <a:ext cx="28440" cy="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6597720" y="1023840"/>
              <a:ext cx="223920" cy="200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374880" y="1019160"/>
              <a:ext cx="211320" cy="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350040" y="701640"/>
              <a:ext cx="36036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6597360" y="479520"/>
              <a:ext cx="112680" cy="225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6097680" y="480960"/>
              <a:ext cx="503280" cy="1238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5876640" y="479160"/>
              <a:ext cx="252360" cy="127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78440" y="480960"/>
              <a:ext cx="249480" cy="322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5778360" y="803160"/>
              <a:ext cx="363600" cy="968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67560" y="912960"/>
              <a:ext cx="360360" cy="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765760" y="925560"/>
              <a:ext cx="363600" cy="196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67560" y="1122480"/>
              <a:ext cx="1440" cy="322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67560" y="1444680"/>
              <a:ext cx="471240" cy="98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001920" y="1542960"/>
              <a:ext cx="252360" cy="98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89680" y="1654200"/>
              <a:ext cx="609480" cy="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599160" y="1545840"/>
              <a:ext cx="249480" cy="1033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6834240" y="1118880"/>
              <a:ext cx="360360" cy="423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818400" y="1122480"/>
              <a:ext cx="363600" cy="1238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9" name="" descr=""/>
          <p:cNvPicPr/>
          <p:nvPr/>
        </p:nvPicPr>
        <p:blipFill>
          <a:blip r:embed="rId7"/>
          <a:stretch/>
        </p:blipFill>
        <p:spPr>
          <a:xfrm>
            <a:off x="3357720" y="428760"/>
            <a:ext cx="971280" cy="12920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357120" y="30002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«Жить на плоскости не скучно, веселей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ем на прямой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2643120" y="2357280"/>
            <a:ext cx="6143760" cy="3929400"/>
            <a:chOff x="2643120" y="2357280"/>
            <a:chExt cx="6143760" cy="3929400"/>
          </a:xfrm>
        </p:grpSpPr>
        <p:sp>
          <p:nvSpPr>
            <p:cNvPr id="502" name=""/>
            <p:cNvSpPr/>
            <p:nvPr/>
          </p:nvSpPr>
          <p:spPr>
            <a:xfrm>
              <a:off x="2643120" y="2357280"/>
              <a:ext cx="6143760" cy="39294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Verdana"/>
                </a:rPr>
                <a:t>1.Научиться…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Verdana"/>
                </a:rPr>
                <a:t>2.Повторить…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Verdana"/>
                </a:rPr>
                <a:t>3.Отработать умения…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Verdana"/>
                </a:rPr>
                <a:t>4.Систематизировать…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Verdana"/>
                </a:rPr>
                <a:t>5. Закрепить…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Verdana"/>
                </a:rPr>
                <a:t>6. Обобщить…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65520" y="2587680"/>
              <a:ext cx="559260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2016000" cy="14432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340000" y="7650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Verdana"/>
              </a:rPr>
              <a:t>Цели урока: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2411280" y="1989000"/>
            <a:ext cx="2876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 fill="hold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7EEB3E-1020-4E3F-ACB0-11573A969E9B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>
            <a:off x="5183280" y="285840"/>
            <a:ext cx="396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к определить положение каждой точки, из которых состоит фигура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549680" cy="56862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rcRect l="0" t="0" r="0" b="5552"/>
          <a:stretch/>
        </p:blipFill>
        <p:spPr>
          <a:xfrm>
            <a:off x="5724360" y="2276640"/>
            <a:ext cx="2886120" cy="4078080"/>
          </a:xfrm>
          <a:prstGeom prst="rect">
            <a:avLst/>
          </a:prstGeom>
          <a:ln w="0">
            <a:noFill/>
          </a:ln>
        </p:spPr>
      </p:pic>
      <p:sp>
        <p:nvSpPr>
          <p:cNvPr id="511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143760" y="642960"/>
            <a:ext cx="2500200" cy="38577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826920" y="1109520"/>
          <a:ext cx="4969080" cy="5181840"/>
        </p:xfrm>
        <a:graphic>
          <a:graphicData uri="http://schemas.openxmlformats.org/drawingml/2006/table">
            <a:tbl>
              <a:tblPr/>
              <a:tblGrid>
                <a:gridCol w="487440"/>
                <a:gridCol w="488880"/>
                <a:gridCol w="465120"/>
                <a:gridCol w="511200"/>
                <a:gridCol w="489240"/>
                <a:gridCol w="487080"/>
                <a:gridCol w="487440"/>
                <a:gridCol w="544680"/>
                <a:gridCol w="426960"/>
                <a:gridCol w="581040"/>
              </a:tblGrid>
              <a:tr h="545400"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</a:tr>
              <a:tr h="545400"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</a:tr>
              <a:tr h="545400"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</a:tr>
              <a:tr h="545400"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</a:tr>
              <a:tr h="545400"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</a:tr>
              <a:tr h="545400"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626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</a:tr>
              <a:tr h="545400"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</a:tr>
              <a:tr h="545400"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</a:tr>
              <a:tr h="545400"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</a:tr>
              <a:tr h="545400"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572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beec9"/>
                      </a:solidFill>
                    </a:lnL>
                    <a:lnR w="720">
                      <a:solidFill>
                        <a:srgbClr val="fbeec9"/>
                      </a:solidFill>
                    </a:lnR>
                    <a:lnT w="720">
                      <a:solidFill>
                        <a:srgbClr val="fbeec9"/>
                      </a:solidFill>
                    </a:lnT>
                    <a:lnB w="720">
                      <a:solidFill>
                        <a:srgbClr val="fbeec9"/>
                      </a:solidFill>
                    </a:lnB>
                    <a:solidFill>
                      <a:srgbClr val="ecc8a4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 flipV="1">
            <a:off x="3286080" y="1069560"/>
            <a:ext cx="1800" cy="5187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"/>
          <p:cNvSpPr/>
          <p:nvPr/>
        </p:nvSpPr>
        <p:spPr>
          <a:xfrm>
            <a:off x="826920" y="3714840"/>
            <a:ext cx="496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"/>
          <p:cNvSpPr/>
          <p:nvPr/>
        </p:nvSpPr>
        <p:spPr>
          <a:xfrm>
            <a:off x="3597120" y="3773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4089240" y="3773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629240" y="37846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5121360" y="3795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5508720" y="3573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>
            <a:off x="2916360" y="1268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>
            <a:off x="2916360" y="184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291636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2532240" y="37846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>
            <a:off x="2049480" y="37846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"/>
          <p:cNvSpPr/>
          <p:nvPr/>
        </p:nvSpPr>
        <p:spPr>
          <a:xfrm>
            <a:off x="1569960" y="3773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>
            <a:off x="1089000" y="3773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"/>
          <p:cNvSpPr/>
          <p:nvPr/>
        </p:nvSpPr>
        <p:spPr>
          <a:xfrm>
            <a:off x="291636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203640" y="318600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3203640" y="2670120"/>
            <a:ext cx="144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3203640" y="214164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2795760" y="364176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2279520" y="3641760"/>
            <a:ext cx="18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3780000" y="362916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203640" y="162576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>
            <a:off x="4246560" y="364176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>
            <a:off x="4799160" y="365292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1798560" y="3641760"/>
            <a:ext cx="18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1332000" y="365292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>
            <a:off x="3203640" y="421812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3203640" y="4734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3203640" y="524844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3203640" y="577836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2843280" y="4062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842560" y="4589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"/>
          <p:cNvSpPr/>
          <p:nvPr/>
        </p:nvSpPr>
        <p:spPr>
          <a:xfrm>
            <a:off x="2854440" y="5105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"/>
          <p:cNvSpPr/>
          <p:nvPr/>
        </p:nvSpPr>
        <p:spPr>
          <a:xfrm>
            <a:off x="2854440" y="56214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"/>
          <p:cNvSpPr/>
          <p:nvPr/>
        </p:nvSpPr>
        <p:spPr>
          <a:xfrm>
            <a:off x="2927520" y="3726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238560" y="10270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4716360" y="3095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3203640" y="25858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4175280" y="4649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"/>
          <p:cNvSpPr/>
          <p:nvPr/>
        </p:nvSpPr>
        <p:spPr>
          <a:xfrm>
            <a:off x="1258920" y="4649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"/>
          <p:cNvSpPr/>
          <p:nvPr/>
        </p:nvSpPr>
        <p:spPr>
          <a:xfrm>
            <a:off x="2195640" y="1530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4238640" y="43783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792680" y="28051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"/>
          <p:cNvSpPr/>
          <p:nvPr/>
        </p:nvSpPr>
        <p:spPr>
          <a:xfrm>
            <a:off x="3262320" y="22986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"/>
          <p:cNvSpPr/>
          <p:nvPr/>
        </p:nvSpPr>
        <p:spPr>
          <a:xfrm>
            <a:off x="2243160" y="1266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1347840" y="4379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"/>
          <p:cNvSpPr/>
          <p:nvPr/>
        </p:nvSpPr>
        <p:spPr>
          <a:xfrm>
            <a:off x="6143760" y="714240"/>
            <a:ext cx="2500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A (3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B (2;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 (-2;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D (-4;-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E (0;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F(-4;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1258920" y="3639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316160" y="33368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857160" y="142920"/>
            <a:ext cx="70009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Назовите координаты точе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А, В, С,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D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, Е,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5303880" y="366408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6286680" y="4292640"/>
            <a:ext cx="2565360" cy="2565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 fill="hold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 fill="hold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 fill="hold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 fill="hold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 fill="hold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 fill="hold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 fill="hold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 fill="hold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 fill="hold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 fill="hold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 fill="hold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357960" y="1785960"/>
            <a:ext cx="2143080" cy="37861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>
            <a:off x="428760" y="357120"/>
            <a:ext cx="5214960" cy="6215040"/>
          </a:xfrm>
          <a:prstGeom prst="rect">
            <a:avLst/>
          </a:prstGeom>
          <a:solidFill>
            <a:srgbClr val="7030a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>
            <a:off x="5500800" y="28584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Запишите координаты точек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B, A, R, S, I, 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6357960" y="1785960"/>
            <a:ext cx="2101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B (3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A( 2:-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R (0;-9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S (-3;-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I (-2;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K (-1;9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714240" y="571680"/>
            <a:ext cx="4786560" cy="58114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714680" y="25718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dur="indefinite" fill="hold">
                      <p:stCondLst>
                        <p:cond delay="indefinite"/>
                      </p:stCondLst>
                      <p:childTnLst>
                        <p:par>
                          <p:cTn id="3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 fill="hold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dur="indefinite" fill="hold">
                      <p:stCondLst>
                        <p:cond delay="indefinite"/>
                      </p:stCondLst>
                      <p:childTnLst>
                        <p:par>
                          <p:cTn id="3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dur="indefinite" fill="hold">
                      <p:stCondLst>
                        <p:cond delay="indefinite"/>
                      </p:stCondLst>
                      <p:childTnLst>
                        <p:par>
                          <p:cTn id="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>
            <a:hlinkClick r:id="rId2" action="ppaction://hlinksldjump"/>
          </p:cNvPr>
          <p:cNvSpPr/>
          <p:nvPr/>
        </p:nvSpPr>
        <p:spPr>
          <a:xfrm>
            <a:off x="7885080" y="189000"/>
            <a:ext cx="1042920" cy="50328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4744" h="21600">
                <a:moveTo>
                  <a:pt x="0" y="0"/>
                </a:moveTo>
                <a:lnTo>
                  <a:pt x="44744" y="0"/>
                </a:lnTo>
                <a:lnTo>
                  <a:pt x="44744" y="21600"/>
                </a:lnTo>
                <a:lnTo>
                  <a:pt x="0" y="21600"/>
                </a:lnTo>
                <a:close/>
              </a:path>
              <a:path fill="lightenLess" w="44744" h="21600">
                <a:moveTo>
                  <a:pt x="0" y="0"/>
                </a:moveTo>
                <a:lnTo>
                  <a:pt x="44744" y="0"/>
                </a:lnTo>
                <a:lnTo>
                  <a:pt x="43344" y="1400"/>
                </a:lnTo>
                <a:lnTo>
                  <a:pt x="1400" y="1400"/>
                </a:lnTo>
                <a:close/>
              </a:path>
              <a:path fill="darken" w="44744" h="21600">
                <a:moveTo>
                  <a:pt x="44744" y="0"/>
                </a:moveTo>
                <a:lnTo>
                  <a:pt x="44744" y="21600"/>
                </a:lnTo>
                <a:lnTo>
                  <a:pt x="43344" y="20200"/>
                </a:lnTo>
                <a:lnTo>
                  <a:pt x="43344" y="1400"/>
                </a:lnTo>
                <a:close/>
              </a:path>
              <a:path fill="darkenLess" w="44744" h="21600">
                <a:moveTo>
                  <a:pt x="44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44" y="20200"/>
                </a:lnTo>
                <a:close/>
              </a:path>
              <a:path fill="lighten" w="44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44" h="21600">
                <a:moveTo>
                  <a:pt x="18873" y="10800"/>
                </a:moveTo>
                <a:lnTo>
                  <a:pt x="29378" y="3794"/>
                </a:lnTo>
                <a:lnTo>
                  <a:pt x="29378" y="17806"/>
                </a:lnTo>
                <a:close/>
              </a:path>
              <a:path fill="darken" w="44744" h="21600">
                <a:moveTo>
                  <a:pt x="15365" y="3794"/>
                </a:moveTo>
                <a:lnTo>
                  <a:pt x="17028" y="3794"/>
                </a:lnTo>
                <a:lnTo>
                  <a:pt x="17028" y="17806"/>
                </a:lnTo>
                <a:lnTo>
                  <a:pt x="15365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0" y="3419640"/>
            <a:ext cx="3995640" cy="34383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50920" y="260280"/>
            <a:ext cx="61214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оординатная  плоскость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468360" y="1557360"/>
            <a:ext cx="1944720" cy="7192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 (-3; 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"/>
          <p:cNvSpPr/>
          <p:nvPr/>
        </p:nvSpPr>
        <p:spPr>
          <a:xfrm>
            <a:off x="2484360" y="1557360"/>
            <a:ext cx="1944720" cy="7192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(4; 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4572000" y="1557360"/>
            <a:ext cx="1944720" cy="7192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 (-7; 5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6588000" y="1557360"/>
            <a:ext cx="1944720" cy="7192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 (4; 5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"/>
          <p:cNvSpPr/>
          <p:nvPr/>
        </p:nvSpPr>
        <p:spPr>
          <a:xfrm>
            <a:off x="182520" y="2349360"/>
            <a:ext cx="53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координаты точки 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сечения  прямых АВ и С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"/>
          <p:cNvSpPr/>
          <p:nvPr/>
        </p:nvSpPr>
        <p:spPr>
          <a:xfrm>
            <a:off x="6732720" y="3068640"/>
            <a:ext cx="1800000" cy="1042920"/>
          </a:xfrm>
          <a:custGeom>
            <a:avLst/>
            <a:gdLst>
              <a:gd name="textAreaLeft" fmla="*/ 67320 w 1800000"/>
              <a:gd name="textAreaRight" fmla="*/ 1732680 w 180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7275" h="21600">
                <a:moveTo>
                  <a:pt x="0" y="0"/>
                </a:moveTo>
                <a:lnTo>
                  <a:pt x="37275" y="0"/>
                </a:lnTo>
                <a:lnTo>
                  <a:pt x="37275" y="21600"/>
                </a:lnTo>
                <a:lnTo>
                  <a:pt x="0" y="21600"/>
                </a:lnTo>
                <a:close/>
              </a:path>
              <a:path fill="lightenLess" w="37275" h="21600">
                <a:moveTo>
                  <a:pt x="0" y="0"/>
                </a:moveTo>
                <a:lnTo>
                  <a:pt x="37275" y="0"/>
                </a:lnTo>
                <a:lnTo>
                  <a:pt x="35875" y="1400"/>
                </a:lnTo>
                <a:lnTo>
                  <a:pt x="1400" y="1400"/>
                </a:lnTo>
                <a:close/>
              </a:path>
              <a:path fill="darken" w="37275" h="21600">
                <a:moveTo>
                  <a:pt x="37275" y="0"/>
                </a:moveTo>
                <a:lnTo>
                  <a:pt x="37275" y="21600"/>
                </a:lnTo>
                <a:lnTo>
                  <a:pt x="35875" y="20200"/>
                </a:lnTo>
                <a:lnTo>
                  <a:pt x="35875" y="1400"/>
                </a:lnTo>
                <a:close/>
              </a:path>
              <a:path fill="darkenLess" w="37275" h="21600">
                <a:moveTo>
                  <a:pt x="37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75" y="20200"/>
                </a:lnTo>
                <a:close/>
              </a:path>
              <a:path fill="lighten" w="37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c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 (5; 5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6732720" y="4292640"/>
            <a:ext cx="1800000" cy="1042920"/>
          </a:xfrm>
          <a:custGeom>
            <a:avLst/>
            <a:gdLst>
              <a:gd name="textAreaLeft" fmla="*/ 67320 w 1800000"/>
              <a:gd name="textAreaRight" fmla="*/ 1732680 w 180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7275" h="21600">
                <a:moveTo>
                  <a:pt x="0" y="0"/>
                </a:moveTo>
                <a:lnTo>
                  <a:pt x="37275" y="0"/>
                </a:lnTo>
                <a:lnTo>
                  <a:pt x="37275" y="21600"/>
                </a:lnTo>
                <a:lnTo>
                  <a:pt x="0" y="21600"/>
                </a:lnTo>
                <a:close/>
              </a:path>
              <a:path fill="lightenLess" w="37275" h="21600">
                <a:moveTo>
                  <a:pt x="0" y="0"/>
                </a:moveTo>
                <a:lnTo>
                  <a:pt x="37275" y="0"/>
                </a:lnTo>
                <a:lnTo>
                  <a:pt x="35875" y="1400"/>
                </a:lnTo>
                <a:lnTo>
                  <a:pt x="1400" y="1400"/>
                </a:lnTo>
                <a:close/>
              </a:path>
              <a:path fill="darken" w="37275" h="21600">
                <a:moveTo>
                  <a:pt x="37275" y="0"/>
                </a:moveTo>
                <a:lnTo>
                  <a:pt x="37275" y="21600"/>
                </a:lnTo>
                <a:lnTo>
                  <a:pt x="35875" y="20200"/>
                </a:lnTo>
                <a:lnTo>
                  <a:pt x="35875" y="1400"/>
                </a:lnTo>
                <a:close/>
              </a:path>
              <a:path fill="darkenLess" w="37275" h="21600">
                <a:moveTo>
                  <a:pt x="37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75" y="20200"/>
                </a:lnTo>
                <a:close/>
              </a:path>
              <a:path fill="lighten" w="37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c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 (-5; 5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"/>
          <p:cNvSpPr/>
          <p:nvPr/>
        </p:nvSpPr>
        <p:spPr>
          <a:xfrm>
            <a:off x="6732720" y="5516640"/>
            <a:ext cx="1800000" cy="1042920"/>
          </a:xfrm>
          <a:custGeom>
            <a:avLst/>
            <a:gdLst>
              <a:gd name="textAreaLeft" fmla="*/ 67320 w 1800000"/>
              <a:gd name="textAreaRight" fmla="*/ 1732680 w 180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7275" h="21600">
                <a:moveTo>
                  <a:pt x="0" y="0"/>
                </a:moveTo>
                <a:lnTo>
                  <a:pt x="37275" y="0"/>
                </a:lnTo>
                <a:lnTo>
                  <a:pt x="37275" y="21600"/>
                </a:lnTo>
                <a:lnTo>
                  <a:pt x="0" y="21600"/>
                </a:lnTo>
                <a:close/>
              </a:path>
              <a:path fill="lightenLess" w="37275" h="21600">
                <a:moveTo>
                  <a:pt x="0" y="0"/>
                </a:moveTo>
                <a:lnTo>
                  <a:pt x="37275" y="0"/>
                </a:lnTo>
                <a:lnTo>
                  <a:pt x="35875" y="1400"/>
                </a:lnTo>
                <a:lnTo>
                  <a:pt x="1400" y="1400"/>
                </a:lnTo>
                <a:close/>
              </a:path>
              <a:path fill="darken" w="37275" h="21600">
                <a:moveTo>
                  <a:pt x="37275" y="0"/>
                </a:moveTo>
                <a:lnTo>
                  <a:pt x="37275" y="21600"/>
                </a:lnTo>
                <a:lnTo>
                  <a:pt x="35875" y="20200"/>
                </a:lnTo>
                <a:lnTo>
                  <a:pt x="35875" y="1400"/>
                </a:lnTo>
                <a:close/>
              </a:path>
              <a:path fill="darkenLess" w="37275" h="21600">
                <a:moveTo>
                  <a:pt x="37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75" y="20200"/>
                </a:lnTo>
                <a:close/>
              </a:path>
              <a:path fill="lighten" w="37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ffc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 (5; -5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4356000" y="4508640"/>
            <a:ext cx="1871640" cy="502920"/>
          </a:xfrm>
          <a:prstGeom prst="wedgeRoundRectCallout">
            <a:avLst>
              <a:gd name="adj1" fmla="val 75870"/>
              <a:gd name="adj2" fmla="val 107097"/>
              <a:gd name="adj3" fmla="val 1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356000" y="3500280"/>
            <a:ext cx="1871640" cy="503280"/>
          </a:xfrm>
          <a:prstGeom prst="wedgeRoundRectCallout">
            <a:avLst>
              <a:gd name="adj1" fmla="val 72050"/>
              <a:gd name="adj2" fmla="val 67666"/>
              <a:gd name="adj3" fmla="val 16667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4427640" y="5589720"/>
            <a:ext cx="1871640" cy="503280"/>
          </a:xfrm>
          <a:prstGeom prst="wedgeRoundRectCallout">
            <a:avLst>
              <a:gd name="adj1" fmla="val 74087"/>
              <a:gd name="adj2" fmla="val 130759"/>
              <a:gd name="adj3" fmla="val 16667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0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dur="indefinite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442" dur="indefinite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dur="indefinite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448" dur="indefinite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dur="indefinite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454" dur="indefinite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F53781-273A-4B69-B65D-417BE20240DD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064360" cy="56516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6643800" y="4714920"/>
            <a:ext cx="21906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785880"/>
            <a:ext cx="80010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Impact"/>
              </a:rPr>
              <a:t>Моё настроение в конце урок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1643040" y="1857240"/>
            <a:ext cx="5715000" cy="40435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7305840" y="0"/>
            <a:ext cx="1838160" cy="173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7:44:32Z</dcterms:created>
  <dc:creator>Admin</dc:creator>
  <dc:description/>
  <dc:language>en-US</dc:language>
  <cp:lastModifiedBy>UserXP</cp:lastModifiedBy>
  <dcterms:modified xsi:type="dcterms:W3CDTF">2012-11-22T14:43:21Z</dcterms:modified>
  <cp:revision>12</cp:revision>
  <dc:subject/>
  <dc:title>Слайд 1</dc:title>
</cp:coreProperties>
</file>